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847B-C580-4A1F-97E0-3043F1BD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177E-81BC-4EDC-916A-3443B68E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1211-C270-432E-8C74-16DC1C3A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B7DB-E43B-49C5-AE26-7FD6490D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9EAA-EF04-41FD-BD60-70344FFA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A736-E5B5-4A55-B833-D2C0E1D8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4B71-7C1C-4EEC-AB89-AB653526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6C36-C54E-4FE5-BBD0-36B1E6A3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C0EA-315C-476A-9D5F-C1AE722A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6DC3-DF2A-48B6-8EFC-9A7282BC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B6FA-CC9D-49B3-88CF-518AB41B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77EC-E902-4433-B771-C3AD7BCA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hite.jpg"/>
          <p:cNvPicPr/>
          <p:nvPr/>
        </p:nvPicPr>
        <p:blipFill>
          <a:blip r:embed="rId2"/>
          <a:stretch/>
        </p:blipFill>
        <p:spPr>
          <a:xfrm>
            <a:off x="-201600" y="0"/>
            <a:ext cx="9497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D36F6-ED3B-47B7-A1F9-71BEC4DEDC4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white.jpg"/>
          <p:cNvPicPr/>
          <p:nvPr/>
        </p:nvPicPr>
        <p:blipFill>
          <a:blip r:embed="rId2"/>
          <a:stretch/>
        </p:blipFill>
        <p:spPr>
          <a:xfrm>
            <a:off x="-201600" y="0"/>
            <a:ext cx="9497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200" spc="-1" strike="noStrike">
                <a:solidFill>
                  <a:srgbClr val="558ed5"/>
                </a:solidFill>
                <a:latin typeface="Arial"/>
              </a:rPr>
              <a:t>National Broadband Network (NBN)</a:t>
            </a:r>
            <a:br>
              <a:rPr sz="3200"/>
            </a:br>
            <a:r>
              <a:rPr b="1" lang="en-AU" sz="3200" spc="-1" strike="noStrike">
                <a:solidFill>
                  <a:srgbClr val="558ed5"/>
                </a:solidFill>
                <a:latin typeface="Arial"/>
              </a:rPr>
              <a:t>E-Lear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32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07640" y="1628280"/>
            <a:ext cx="85345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Project applicants must demonstrate that their project budget includes a co-investment contribution*.  Contributions can includ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Salaries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enabling technology used for E-lear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0" i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*The level of co-contribution that is offered will be taken into account by the selection panel in competitive assessment of project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le 1"/>
          <p:cNvSpPr/>
          <p:nvPr/>
        </p:nvSpPr>
        <p:spPr>
          <a:xfrm>
            <a:off x="32400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600" spc="-1" strike="noStrike">
                <a:solidFill>
                  <a:srgbClr val="558ed5"/>
                </a:solidFill>
                <a:latin typeface="Arial"/>
                <a:ea typeface="Arial"/>
              </a:rPr>
              <a:t>Co-Investmen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10526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200" spc="-1" strike="noStrike">
                <a:solidFill>
                  <a:srgbClr val="558ed5"/>
                </a:solidFill>
                <a:latin typeface="Arial"/>
              </a:rPr>
              <a:t>Examples of possible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19564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2778480" y="335772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PLEASE ADD SOME </a:t>
            </a:r>
            <a:r>
              <a:rPr b="0" lang="en-AU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10526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200" spc="-1" strike="noStrike">
                <a:solidFill>
                  <a:srgbClr val="558ed5"/>
                </a:solidFill>
                <a:latin typeface="Arial"/>
              </a:rPr>
              <a:t>The role of the ELCs and T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55280" y="1988640"/>
            <a:ext cx="7553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omotion of NBN activity and information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upport for project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What else – what will the TC be doing for teams??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tle 1"/>
          <p:cNvSpPr/>
          <p:nvPr/>
        </p:nvSpPr>
        <p:spPr>
          <a:xfrm>
            <a:off x="32400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600" spc="-1" strike="noStrike">
                <a:solidFill>
                  <a:srgbClr val="558ed5"/>
                </a:solidFill>
                <a:latin typeface="Arial"/>
                <a:ea typeface="Arial"/>
              </a:rPr>
              <a:t>Timelin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ue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1413000"/>
          <a:ext cx="7920000" cy="4545000"/>
        </p:xfrm>
        <a:graphic>
          <a:graphicData uri="http://schemas.openxmlformats.org/drawingml/2006/table">
            <a:tbl>
              <a:tblPr/>
              <a:tblGrid>
                <a:gridCol w="5101920"/>
                <a:gridCol w="2818080"/>
              </a:tblGrid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d9d9d9"/>
                          </a:solidFill>
                          <a:latin typeface="Arial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d9d9d9"/>
                          </a:solidFill>
                          <a:latin typeface="Arial"/>
                        </a:rPr>
                        <a:t>DUE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1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ing opportunities advertis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 commencing </a:t>
                      </a:r>
                      <a:br>
                        <a:rPr sz="1600"/>
                      </a:b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October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3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s  close </a:t>
                      </a:r>
                      <a:r>
                        <a:rPr b="0" i="1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mailed to Tasmania and NSW Business Managers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November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nts  notified of outc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December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s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December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1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ction ev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ember 2011 or January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s comm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January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vis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or April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98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ssion of final Project Reports (includes acquittal statement of project expenditure and post project measurement of learner and project outcom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June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le 1"/>
          <p:cNvSpPr/>
          <p:nvPr/>
        </p:nvSpPr>
        <p:spPr>
          <a:xfrm>
            <a:off x="324000" y="69228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600" spc="-1" strike="noStrike">
                <a:solidFill>
                  <a:srgbClr val="558ed5"/>
                </a:solidFill>
                <a:latin typeface="Arial"/>
                <a:ea typeface="Arial"/>
              </a:rPr>
              <a:t>Information session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8360" y="1628640"/>
          <a:ext cx="2663640" cy="4145040"/>
        </p:xfrm>
        <a:graphic>
          <a:graphicData uri="http://schemas.openxmlformats.org/drawingml/2006/table">
            <a:tbl>
              <a:tblPr/>
              <a:tblGrid>
                <a:gridCol w="1170000"/>
                <a:gridCol w="1493640"/>
              </a:tblGrid>
              <a:tr h="48744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’S INFO SES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OCTO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TON, 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OCTO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 OCTO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SDALE, 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OCTO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BOURNE, V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 OCTO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UNGA, 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 OCTO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BART, 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 OCTO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716360" y="1628640"/>
          <a:ext cx="2592360" cy="1905120"/>
        </p:xfrm>
        <a:graphic>
          <a:graphicData uri="http://schemas.openxmlformats.org/drawingml/2006/table">
            <a:tbl>
              <a:tblPr/>
              <a:tblGrid>
                <a:gridCol w="1139760"/>
                <a:gridCol w="1452600"/>
              </a:tblGrid>
              <a:tr h="487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SW’S INFO SES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4" name="Rectangle 10"/>
          <p:cNvSpPr/>
          <p:nvPr/>
        </p:nvSpPr>
        <p:spPr>
          <a:xfrm>
            <a:off x="5302080" y="386064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add NSW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tle 1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6600" spc="-1" strike="noStrike">
                <a:solidFill>
                  <a:srgbClr val="558ed5"/>
                </a:solidFill>
                <a:latin typeface="Arial"/>
                <a:ea typeface="Arial"/>
              </a:rPr>
              <a:t>Q&amp;A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200" spc="-1" strike="noStrike">
                <a:solidFill>
                  <a:srgbClr val="558ed5"/>
                </a:solidFill>
                <a:latin typeface="Arial"/>
              </a:rPr>
              <a:t>Tasmanian and NSW Partne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10920" y="2420640"/>
            <a:ext cx="75610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iona Huskin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BN National Business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add NSW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Where should be put roles, responsibilities and support and are we clear on what these are </a:t>
            </a:r>
            <a:r>
              <a:rPr b="0" lang="en-AU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:\Users\eloise.rushton\Desktop\fiona march10 small.jpg"/>
          <p:cNvPicPr/>
          <p:nvPr/>
        </p:nvPicPr>
        <p:blipFill>
          <a:blip r:embed="rId1"/>
          <a:stretch/>
        </p:blipFill>
        <p:spPr>
          <a:xfrm>
            <a:off x="1692360" y="2349360"/>
            <a:ext cx="68904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71280" y="620280"/>
            <a:ext cx="309564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558ed5"/>
                </a:solidFill>
                <a:latin typeface="Arial"/>
              </a:rPr>
              <a:t>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3097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AS will manage projects 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V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SW will manage projects 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Q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S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4500720" y="1663560"/>
            <a:ext cx="4321080" cy="40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200" spc="-1" strike="noStrike">
                <a:solidFill>
                  <a:srgbClr val="558ed5"/>
                </a:solidFill>
                <a:latin typeface="Arial"/>
              </a:rPr>
              <a:t>The National VET E-learning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9640" y="1844280"/>
            <a:ext cx="76327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898989"/>
                </a:solidFill>
                <a:latin typeface="Arial"/>
              </a:rPr>
              <a:t>The </a:t>
            </a:r>
            <a:r>
              <a:rPr b="0" i="1" lang="en-AU" sz="1800" spc="-1" strike="noStrike">
                <a:solidFill>
                  <a:srgbClr val="898989"/>
                </a:solidFill>
                <a:latin typeface="Arial"/>
              </a:rPr>
              <a:t>National Broadband Network (NBN) E-learning Programs</a:t>
            </a:r>
            <a:r>
              <a:rPr b="0" lang="en-AU" sz="1800" spc="-1" strike="noStrike">
                <a:solidFill>
                  <a:srgbClr val="898989"/>
                </a:solidFill>
                <a:latin typeface="Arial"/>
              </a:rPr>
              <a:t> forms part of the National VET E-learning Strategy (VEL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AU" sz="1800" spc="-1" strike="noStrike">
                <a:solidFill>
                  <a:srgbClr val="558ed5"/>
                </a:solidFill>
                <a:latin typeface="Arial"/>
              </a:rPr>
              <a:t>Vision: A globally competitive Australian training system underpinned by world class E-learning infrastructure and cap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898989"/>
                </a:solidFill>
                <a:latin typeface="Arial"/>
              </a:rPr>
              <a:t>Goal 1: Develop and utilise E-learning strategies to maximise the benefits of the national investment in broadb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AU" sz="1800" spc="-1" strike="noStrike">
                <a:solidFill>
                  <a:srgbClr val="558ed5"/>
                </a:solidFill>
                <a:latin typeface="Arial"/>
              </a:rPr>
              <a:t>Strategic Objective: Demonstrate the power of broadband to enhance outcomes for learners, and promote growth in broadband-based training as the NBN roll­out proc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04920" y="2276280"/>
            <a:ext cx="853416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provide opportunities through targeted funding to create innovative approaches for using the NB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skills to improve Australia’s workforce participation and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tle 1"/>
          <p:cNvSpPr/>
          <p:nvPr/>
        </p:nvSpPr>
        <p:spPr>
          <a:xfrm>
            <a:off x="32400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AU" sz="3100" spc="-1" strike="noStrike">
                <a:solidFill>
                  <a:srgbClr val="558ed5"/>
                </a:solidFill>
                <a:latin typeface="Arial"/>
                <a:ea typeface="Arial"/>
              </a:rPr>
              <a:t>NBN E-learning Programs Business Activity</a:t>
            </a:r>
            <a:r>
              <a:rPr b="1" lang="en-AU" sz="3100" spc="-1" strike="noStrike">
                <a:solidFill>
                  <a:srgbClr val="558ed5"/>
                </a:solidFill>
                <a:latin typeface="Arial"/>
                <a:ea typeface="Arial"/>
              </a:rPr>
              <a:t> wil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0000" y="1483920"/>
            <a:ext cx="85345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$25,000 to $50,000 (plus GST) for projects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Projects run from January to Jun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Projects must focus on improved learner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include a minimum of 10 learners, with larger numbers of learners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Projects must use NBN pilot sites (Stage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Projects can be across state bor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Projects should consist of recognised training which may includ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Industry recognised competencies*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and/or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Nationally recognised units of compe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*Applicants will need to provide evidence of the acceptance and relevance of Industry Based Competencies that are not on the national 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tle 1"/>
          <p:cNvSpPr/>
          <p:nvPr/>
        </p:nvSpPr>
        <p:spPr>
          <a:xfrm>
            <a:off x="32400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600" spc="-1" strike="noStrike">
                <a:solidFill>
                  <a:srgbClr val="558ed5"/>
                </a:solidFill>
                <a:latin typeface="Arial"/>
                <a:ea typeface="Arial"/>
              </a:rPr>
              <a:t>What you need to 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0000" y="1483920"/>
            <a:ext cx="85345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Projects m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trial innovative  programs  using high capacity connection, for example: telepresence, simulated learning, game-based learning, e-tutors, learner analytics and videostreaming solutions,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facilitate VET programs using broadband-based information technology to improve training access and outcomes for learners, 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prepare organisational readiness models for delivering training and assessment services for the NBN, for example organisational capability, enabling connectivity to the NB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tle 1"/>
          <p:cNvSpPr/>
          <p:nvPr/>
        </p:nvSpPr>
        <p:spPr>
          <a:xfrm>
            <a:off x="32400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600" spc="-1" strike="noStrike">
                <a:solidFill>
                  <a:srgbClr val="558ed5"/>
                </a:solidFill>
                <a:latin typeface="Arial"/>
                <a:ea typeface="Arial"/>
              </a:rPr>
              <a:t>Scop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90000" y="1483920"/>
            <a:ext cx="85345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mproved access and skills attainment for learners through broadband-based training programs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he development of models using broadband/high bandwidth based VET delivery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he growth and enhancement of partnerships to deliver new training solutions using the NBN for learners and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le 1"/>
          <p:cNvSpPr/>
          <p:nvPr/>
        </p:nvSpPr>
        <p:spPr>
          <a:xfrm>
            <a:off x="32400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600" spc="-1" strike="noStrike">
                <a:solidFill>
                  <a:srgbClr val="558ed5"/>
                </a:solidFill>
                <a:latin typeface="Arial"/>
                <a:ea typeface="Arial"/>
              </a:rPr>
              <a:t>Outcom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0000" y="1483920"/>
            <a:ext cx="85345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usiness, Community Groups and Registered Training Organis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proposals should include an RTO partner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ny partner organisation may have the role of Lead Agent, taking responsibility for accountability for funds, effective management of the project, reporting and delivery of outcomes.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Lead Agents must be legal ent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tle 1"/>
          <p:cNvSpPr/>
          <p:nvPr/>
        </p:nvSpPr>
        <p:spPr>
          <a:xfrm>
            <a:off x="32400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600" spc="-1" strike="noStrike">
                <a:solidFill>
                  <a:srgbClr val="558ed5"/>
                </a:solidFill>
                <a:latin typeface="Arial"/>
                <a:ea typeface="Arial"/>
              </a:rPr>
              <a:t>Eligibility to appl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01:20:50Z</dcterms:created>
  <dc:creator>andrea.wallace</dc:creator>
  <dc:description/>
  <dc:language>en-US</dc:language>
  <cp:lastModifiedBy>Fiona</cp:lastModifiedBy>
  <dcterms:modified xsi:type="dcterms:W3CDTF">2011-10-12T05:05:52Z</dcterms:modified>
  <cp:revision>12</cp:revision>
  <dc:subject/>
  <dc:title>Slide 1</dc:title>
</cp:coreProperties>
</file>